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85B12-9022-4D69-B1AA-DC3154CCD9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58171-5113-442D-A1FB-C62C940E1A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2A70C-AFAD-43EF-ADDD-FCF915B370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36FD4-C5E5-4234-88E1-5A6E38BBC3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C19E5-DF32-44CF-AD77-FEEB8D7A44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E1E2A-1892-498D-AFBB-3B6D520FB7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9209D-BABA-4615-88F6-C50807AD33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3D968-42BB-48F0-B997-555833937A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C7795-0C3E-4B30-997A-C258B1515E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0C4B9-31AC-464B-B646-AF8D3EABF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D8B60-59C3-4E97-A7EF-1D4DFB396E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7017A-08A2-43AA-8A1F-D80D6FA683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21F6-9CF8-4A7F-8334-3213F64ABE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4F36-9E31-49F0-BA14-F8663C654C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7720" y="26665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800" spc="-1" strike="noStrike">
                <a:solidFill>
                  <a:srgbClr val="000000"/>
                </a:solidFill>
                <a:latin typeface="Arial"/>
              </a:rPr>
              <a:t>Pursuing Broader Persp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Algebraic Thin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u need a pen and your mar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ach group will have the following materials provi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 copy of the </a:t>
            </a:r>
            <a:r>
              <a:rPr b="0" i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Generic Mathematical Processes Rubric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per person (you will only receive the section related to your len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 copy of </a:t>
            </a:r>
            <a:r>
              <a:rPr b="0" i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BLM AT3.2Generalization Strategies and Justification Framework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per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 copy of </a:t>
            </a:r>
            <a:r>
              <a:rPr b="0" i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BLM AT3.3 Recording Shee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per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ve to the tables we will designate for Numbers 1, 2 and 3.  No more than 4 people in a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ait for the next i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3D2B-D564-4247-A8AD-6F31830EC7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5588-9940-4D44-8064-EB421C974A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 Your Tas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u will have the next 20 minutes (approximately) to look at the criteria for your lens using the resources we have provided to ensure that you have a common understanding as a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rd your group’s common understanding of “Important Things to Consider/Look For” in the top box on the Recording Sheet.  Leave other boxes bla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7A1B-78A6-4EDA-BB65-EFD0FD0BD8A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9B4B-859A-4A1E-8B46-D9748E66A2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880" y="380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Part 2 ~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ach group will receive the same set of 4 student samples which have been numbered for identif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ach person will start with one of the sa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Using BLM AT3.3, </a:t>
            </a:r>
            <a:r>
              <a:rPr b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INDIVIDUALLY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record your feedback for that student using the criteria for your lens (see box at top of your page). Record in the appropriate bo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hen you are done, turn the sample over to signal you are ready to pass the sample to the next per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hen everyone has their sample turned over, pass the samples ONE place to the r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6440-5D32-408D-925F-F4158F24A8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A0D5-F22A-48D6-8A8B-3B742CA051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Part 3 ~ 2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ound Rob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Starting with sample 1, do a Round Robin in your group, to share your feedba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Come to CONSENSUS on 1 or 2 KEY pieces of feedback for that stud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Record with marker on the half piece of chart paper (be sure to put the student sample number on the chart paper along with the feedbac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Repeat for all 4 samples (approx 5 min per samp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Post chart paper beside samples on the wall when don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0FAA-ECF3-419D-9F69-7EAD6600F2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58D8-0301-4C0C-93FD-64F3D23E4E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Part 4 ~ 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allery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reate groups of 3 by taking one person from each Expert Group to form new Jigsaw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ake a Gallery Walk to look at each s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ach Jigsaw group member will share the justification for feedback with the other group members, based on his/her l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EDC9-87F8-4542-9D3E-3B1EEDF559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5C71-9AA9-4703-9C3A-4FEAE64043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0880" y="533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d focussing on a particular lens help you provide feedback? Why/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084A-F197-4566-9BD5-7810346D90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6E06-9FBB-4335-9511-3FD9FAA41F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533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d you notice any overlaps in the feedback provided through the different len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F811-9B8E-4A61-BEAD-D7C84B9ECF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B72E-C760-42A0-8D69-858B12CC27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880" y="533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ill you look at providing feedback any differently now?  Why/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2630-111F-4DC7-B233-7879E1B5D2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CF9B-2304-4778-919A-33AD3C48E0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880" y="533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questions/concerns do you still hav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are your next ste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019A-B198-487A-BBEF-5018ACF534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5846-5790-4963-B598-CAE56FF8C0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880" y="533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erspective Passport / Math Ma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dividually reflect on your learning and next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rd in your Passport or on your Math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1D02-14FF-40F2-B476-5C2652BC46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A4A9-3631-4DCD-914C-ED243A7A88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sider the various criteria (lenses) through which we assess student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nderstand the importance of shared teacher/student understanding of assessment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flect on personal assessment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gnize that criteria are context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actice responding by looking at student samples through a variety of len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1068-3797-4076-9613-6CC9E11E5B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B039-9126-4377-A915-EF92A48346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20 minutes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CA" sz="4800" spc="-1" strike="noStrike">
                <a:solidFill>
                  <a:srgbClr val="000000"/>
                </a:solidFill>
                <a:latin typeface="Arial"/>
              </a:rPr>
              <a:t>The Clapping G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6C4D-471C-4191-974E-24177E83ED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3DA2-8F82-4378-A681-638136C7CA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 Part 1 ~ 3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esponding to Student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are we looking for when we provide feedback to stud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Knowledge/Applicatio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mmuni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inking/Problem Solv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athematical Proces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ll of the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5306-23CF-4081-9DA0-E927211A8A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BB32-952A-499E-BCB7-C451B90F75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esponding to Student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 will practice providing feedback on samples of student work through the following lenses (Achievement Chart and Math Process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Knowledge and Application (Selecting Tools and Strategies, Connec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mmunication (Representing, Communica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inking (Reasoning and Proving, Problem Solving, Reflec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2A9F-0EF7-4AE2-B6FE-72127332AB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0CCD-250C-4B71-A207-E3F2DF91A0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esponding to Student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 will also consider the frameworks from Ruth Beatty and Cathy Br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Generalization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Jus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381F-A164-4D0B-A4FC-25F650EA1C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67D6-5014-4816-8855-1936B796E4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roups of 4 – Jig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umber off 1,2,3 around the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umber 1’s will be using the len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Knowledge and Application (Selecting Tools and Strategies, Connec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Generalization Strategies and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5B8E-D5C2-4CED-93FB-C76FDB5633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805D-AF93-434E-A0C1-E24CDBAB82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umber 2’s will be using the len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Communication (Representing, Communica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Generalization Strategies and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B53E-B97D-4E2E-BA66-1FB82F208E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72EC-D449-4AAE-8155-5165EA3ACA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Algebraic Think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umber 3’s will be using the len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Thinking (Reasoning and Proving, Problem Solving, Reflec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Generalization Strategies and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A3A4-DB86-4254-B192-0636268A87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33A7-0465-4183-A4F8-9B04BD8B95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heryl</cp:lastModifiedBy>
  <dcterms:modified xsi:type="dcterms:W3CDTF">2011-08-07T16:19:27Z</dcterms:modified>
  <cp:revision>33</cp:revision>
  <dc:subject/>
  <dc:title>&lt;Title&gt;</dc:title>
</cp:coreProperties>
</file>